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02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63600" cy="980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9CCE3-809E-44BA-BC0F-BC42832BA7F8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0920" y="734760"/>
            <a:ext cx="4902480" cy="367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656240"/>
            <a:ext cx="48848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117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4960" y="93117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2C574-9523-4282-82BA-B0D7722FA73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774960" y="93117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0C51A-CC91-4A03-85E1-AC5473006F2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93117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592F7-5C81-437F-85DC-CF9C194390D8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902480" cy="36766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66720" y="4656240"/>
            <a:ext cx="532944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CB80-70A1-4E37-842F-53AB0E1A3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B391-1A6D-43F3-92FA-6923E8C62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7E4C-05E4-42A3-838B-9FB2EA92E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B2DB-23C2-4836-A4B1-6DBD2434E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45CA-81DB-4BDF-9A0B-3A9594CB7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14A1-716E-4D91-95AC-F536F84A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A280-ED40-410E-B79B-578E2C98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731D-7A6B-4B4C-B131-3F7A87CD6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AD2C-70B3-4D54-9B9D-4BE6AE859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FC91-3EC3-4C5D-82A3-B279E421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5689-AE9C-4661-A9BD-14BA7B48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4D21-4D47-4877-930B-4E42A833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903C7-D271-49DE-8EA5-52A876A21834}" type="datetime"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09320" y="65530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76588-704D-45B3-BBBE-5ED63DDE2A27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3960" y="33652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Extracted from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FAI  Amateur-built and Experimental Aircraft Commission  -  CIACA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48006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31st Plenary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Paris ,  Aero Club de 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March 31st,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08000" y="189000"/>
          <a:ext cx="8926560" cy="59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89000"/>
                    <a:ext cx="8926560" cy="59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D697-0CC2-4FDA-9B42-7D1AD5FCBE0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3FC065-3C2E-477B-9508-DE7862E8B8C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51280" y="1700280"/>
            <a:ext cx="2189160" cy="2520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132000" y="4365720"/>
            <a:ext cx="4162680" cy="2163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227640" y="2567160"/>
            <a:ext cx="2541600" cy="1722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9280" y="189000"/>
            <a:ext cx="79218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FAI Gold Air Medal to Jon JOHANSON (Austral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three times round the world (1995,1996,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both p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3092400"/>
            <a:ext cx="39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Times New Roman"/>
              </a:rPr>
              <a:t>www.vansaircraft.com/public/jj-persn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099C-7FBF-4160-A30F-D8265280F432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22932B-A2A2-4533-827D-C7AC4FE48C1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9640" y="6669000"/>
            <a:ext cx="756144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675640" y="6669000"/>
            <a:ext cx="21744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701720"/>
            <a:ext cx="84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101080" y="6165720"/>
            <a:ext cx="596880" cy="649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4000" y="0"/>
            <a:ext cx="784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« The High Flyers Night 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49360"/>
            <a:ext cx="835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Paris, Palais du Luxembourg, 14 October 200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6400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09640" y="22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27840" y="19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77000" y="10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43_High Flyers_m" descr=""/>
          <p:cNvPicPr/>
          <p:nvPr/>
        </p:nvPicPr>
        <p:blipFill>
          <a:blip r:embed="rId2"/>
          <a:stretch/>
        </p:blipFill>
        <p:spPr>
          <a:xfrm>
            <a:off x="2195640" y="884160"/>
            <a:ext cx="5184720" cy="345600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250920" y="4581360"/>
            <a:ext cx="2128680" cy="1634400"/>
            <a:chOff x="250920" y="4581360"/>
            <a:chExt cx="2128680" cy="1634400"/>
          </a:xfrm>
        </p:grpSpPr>
        <p:pic>
          <p:nvPicPr>
            <p:cNvPr id="69" name="42_High Flyers_m" descr=""/>
            <p:cNvPicPr/>
            <p:nvPr/>
          </p:nvPicPr>
          <p:blipFill>
            <a:blip r:embed="rId3"/>
            <a:stretch/>
          </p:blipFill>
          <p:spPr>
            <a:xfrm>
              <a:off x="322200" y="4581360"/>
              <a:ext cx="2057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250920" y="5878440"/>
              <a:ext cx="10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Buzz Aldrin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3598920" y="4437000"/>
            <a:ext cx="1944720" cy="2210400"/>
            <a:chOff x="3598920" y="4437000"/>
            <a:chExt cx="1944720" cy="2210400"/>
          </a:xfrm>
        </p:grpSpPr>
        <p:pic>
          <p:nvPicPr>
            <p:cNvPr id="72" name="40_Centenary Medal_m" descr=""/>
            <p:cNvPicPr/>
            <p:nvPr/>
          </p:nvPicPr>
          <p:blipFill>
            <a:blip r:embed="rId4"/>
            <a:stretch/>
          </p:blipFill>
          <p:spPr>
            <a:xfrm>
              <a:off x="3888000" y="4437000"/>
              <a:ext cx="1314360" cy="19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598920" y="6310080"/>
              <a:ext cx="194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FAI Centenary Medal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443640" y="4581360"/>
            <a:ext cx="2449440" cy="1634400"/>
            <a:chOff x="6443640" y="4581360"/>
            <a:chExt cx="2449440" cy="1634400"/>
          </a:xfrm>
        </p:grpSpPr>
        <p:pic>
          <p:nvPicPr>
            <p:cNvPr id="75" name="41_High Flyers_m" descr=""/>
            <p:cNvPicPr/>
            <p:nvPr/>
          </p:nvPicPr>
          <p:blipFill>
            <a:blip r:embed="rId5"/>
            <a:stretch/>
          </p:blipFill>
          <p:spPr>
            <a:xfrm>
              <a:off x="6732720" y="4581360"/>
              <a:ext cx="2057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6443640" y="5878440"/>
              <a:ext cx="244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Steve Fossett &amp; Bertrand Piccard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08000" y="6467400"/>
            <a:ext cx="2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685800" y="609480"/>
          <a:ext cx="7772400" cy="5505480"/>
        </p:xfrm>
        <a:graphic>
          <a:graphicData uri="http://schemas.openxmlformats.org/drawingml/2006/table">
            <a:tbl>
              <a:tblPr/>
              <a:tblGrid>
                <a:gridCol w="1492200"/>
                <a:gridCol w="1841400"/>
                <a:gridCol w="3586320"/>
                <a:gridCol w="852480"/>
              </a:tblGrid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iscipl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erformanc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érost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ertrand Piccar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r>
                        <a:rPr b="0" lang="fr-FR" sz="900" spc="-1" strike="noStrike" baseline="30000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r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 Tour du monde en ballon+ records altitude et durée en 1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erostation (gaz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F &amp; V Le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ainqueurs de4 coupes Gordon Bennet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stronom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udoin Dollf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viation 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teve Fosset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Tour du monde en ballon  et en avion en solo et sans esca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spa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alery Poliako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spatial prolongé 437 jours 18 heu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uzz Aldr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1er équipage sur la lu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Giravi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ean Boul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ecord du monde d'altitude en hélic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gral Valérie Andr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breuses missions de sauveta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rachutis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eryl Stear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ultiples records du monde en chute li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rachutis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J Wor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réateur du saut en "free style" et "canopy piloting", organisateur des + grands evenements de parachutisme.  Cascades de James Bo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à Voi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Klaus Ohlman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lusieurs records du monde, dont celui 3000 k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Li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anfred Ruhm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ampion du Monde en 1999 et d’Europe en 1998. + CdM Speedgliding 2003 + record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en plane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erzy Makul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6 X champion du monde et 2 X d'Europe en voltige plane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o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av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atherine Maunou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2 fois CdM Volti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av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vetlana Kapani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5 fois CdM Volti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L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ike Blyth + Olivier Aub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lusieurs records du monde et voyages en pendulai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A + 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T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Luc Trullema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outeur des courses en ball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1835280" y="836640"/>
            <a:ext cx="66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24000" y="142704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09960" y="253512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25800" y="30114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22560" y="50706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1125360"/>
            <a:ext cx="777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038F-504E-4773-9D6A-79C54D3A059F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6752C0-9C39-45C3-A98B-3A171D5C5B0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6560" y="403560"/>
            <a:ext cx="820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imes New Roman"/>
              </a:rPr>
              <a:t>Lausanne 27/28.August. The EAS was present there to inform about the amateur built section of aviation, the public interest was very high and a lot of interest was generated, we had inside an aircraft under construction (Kitfox) and a Bruegger Colibri, outside in the static display was a Slepcev Storck, a Cherry and a RV-6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658880" y="2276640"/>
            <a:ext cx="5826240" cy="3735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387C-EB1D-44E1-B02A-0CFB6F546E9E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776061-D796-4260-8233-4EF70169BF0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ff00"/>
                </a:solidFill>
                <a:latin typeface="Times New Roman"/>
              </a:rPr>
              <a:t>MERCI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00"/>
                </a:solidFill>
                <a:latin typeface="Times New Roman"/>
              </a:rPr>
              <a:t>FAI thanks the Aero Club de France for helping us to celebrate the Centenary in style, and for hosting the CIACA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44AF-7064-4D20-8A99-2A56434E408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2E1E21-576F-4616-ABCE-90411351187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New economic racing class p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oject 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(part of the Bleu Citron progr.)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Presented by Mr. Frédéric Hubschwerlen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34800" y="1197000"/>
            <a:ext cx="4237200" cy="2558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714920" y="1197000"/>
            <a:ext cx="4238640" cy="2560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95280" y="3905280"/>
            <a:ext cx="4176720" cy="2522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4740120" y="3906720"/>
            <a:ext cx="4176720" cy="252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590D-6B75-4752-A770-8105700DCD9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97777A-92BB-47FA-9D31-2227000CE8C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IACA Web S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First experience with the CMS  (From Werner Schneider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we have finally access to add, edit content on the webpage, we can al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add more editors by ourself,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is is a real progr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the first steps were promising (I was able to add some content)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ierry does this as a course I have not yet all information I wou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like to have but thats just a matter of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ill fated non working database is finally go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CMS is very powerful and does help to align content in a way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web has a corporate design, this is a very good move. We will s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how this develops and I hope the approach to have from each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each year at least one little story to present will make the CIACA 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more al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515E-3738-4FFF-8AB9-8460EECAEE0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1A14A8-B8C5-4151-A954-6C85400C363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8T16:15:20Z</dcterms:created>
  <dc:creator>UAA15B0</dc:creator>
  <dc:description/>
  <dc:language>en-US</dc:language>
  <cp:lastModifiedBy> </cp:lastModifiedBy>
  <dcterms:modified xsi:type="dcterms:W3CDTF">2006-08-22T13:59:23Z</dcterms:modified>
  <cp:revision>100</cp:revision>
  <dc:subject/>
  <dc:title>Presentazione di PowerPoint</dc:title>
</cp:coreProperties>
</file>